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B2567-188C-446E-9A8B-959F23420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D3CCE-E8BB-4E2D-8FB3-0577801AF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0BD02-DE42-4E1A-8B2C-E8A03B256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1E344-7FEB-4CA1-9279-A55E21739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EFE99-4D0E-4DED-A714-06EB3C5A1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989F7-200F-4C8A-B716-9F76F042D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D6280-B08A-4435-9D80-3967D5006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55C37-11C9-432D-A30F-507E91749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EAFBC-E10A-4CB8-AD04-89C73AA7B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8B4D0-1149-4540-B3CD-80143346D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85659-117C-4452-8EA2-1FF73DF94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7A5D3-F49D-47A5-87DA-C4B7BF610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9557-3C0E-4AF1-87CD-CC36173FE8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content.edgar-online.com/edgar_conv_img/2004/03/12/0001206774-04-000136_HERSHEYS.JPG" TargetMode="External"/><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rds.yahoo.com/_ylt=A0WTb_trP8xJBbQABbeJzbkF;_ylu=X3oDMTBqZDFlYmxzBHBvcwMxNgRzZWMDc3IEdnRpZAM-/SIG=1f5f99r1g/EXP=1238208747/**http%3A//images.search.yahoo.com/images/view%3Fback=http%253A%252F%252Fimages.search.yahoo.com%252Fsearch%252Fimages%253Fp%253Dmoney%2526fr%253Dslv1-twc%2526ei%253Dutf-8%2526x%253Dwrt%26w=500%26h=375%26imgurl=gas2.org%252Ffiles%252F2008%252F03%252Fmoney.jpg%26rurl=http%253A%252F%252Fgreenoptions.com%252Ftag%252Fgdp%26size=198.7kB%26name=money.jpg%26p=money%26type=JPG%26oid=7b0701dffd1c7128%26no=16%26tt=10,116,385%26sigr=10ve1heok%26sigi=110t012gb%26sigb=12f26imom" TargetMode="External"/><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rds.yahoo.com/_ylt=A0WTb_iwP8xJXHwAOoOJzbkF;_ylu=X3oDMTBpdnJhMHUzBHBvcwMxBHNlYwNzcgR2dGlkAw--/SIG=1mfo5kl0k/EXP=1238208816/**http%3A//images.search.yahoo.com/images/view%3Fback=http%253A%252F%252Fimages.search.yahoo.com%252Fsearch%252Fimages%253Fp%253Dmilton%252Bhershey%252Bschool%2526fr%253Dslv1-twc%2526ei%253Dutf-8%2526x%253Dwrt%26w=500%26h=333%26imgurl=static.flickr.com%252F1316%252F1396710569_339e488207.jpg%26rurl=http%253A%252F%252Fwww.flickr.com%252Fphotos%252Fmr_t_in_dc%252F1396710569%252F%26size=126.6kB%26name=Milton%2BHershey%2BSchool%26p=milton%2Bhershey%2Bschool%26type=JPG%26oid=7f73b60dd3a73210%26fusr=Mr.%2BT%2Bin%2BDC%26tit=Milton%2BHershey%2BSchool%26hurl=http%253A%252F%252Fwww.flickr.com%252Fphotos%252Fmr_t_in_dc%252F%26no=1%26tt=715%26sigr=11jmsagg6%26sigi=11g3o21mp%26sigb=12v98mlt4%26sigh=118dcsdje" TargetMode="Externa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rds.yahoo.com/_ylt=A0WTefO2QMxJWewAcNyJzbkF;_ylu=X3oDMTBpdnJhMHUzBHBvcwMxBHNlYwNzcgR2dGlkAw--/SIG=1gocfv16r/EXP=1238209078/**http%3A//images.search.yahoo.com/images/view%3Fback=http%253A%252F%252Fimages.search.yahoo.com%252Fsearch%252Fimages%253Fei%253DUTF-8%2526p%253Dchocolate%252520bar%2526fr2%253Dtab-web%2526fr%253Dslv1-twc%26w=218%26h=152%26imgurl=www.fundraisers1.com%252Fimages%252Fhersheys-bar-2.jpg%26rurl=http%253A%252F%252Fwww.gamespot.com%252Fusers%252FZerocrossings%26size=6.2kB%26name=hersheys-bar-2.jpg%26p=chocolate%2Bbar%26type=JPG%26oid=0d7d57f6ec3aac6e%26no=1%26tt=193,210%26sigr=11bei8t4m%26sigi=11eot93eb%26sigb=12vgmb8f8"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britishcouncil.org/arts-film-314x315-education.jpg"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rds.yahoo.com/_ylt=A0WTb_zcPMxJ0gwBoYmJzbkF;_ylu=X3oDMTBpdnJhMHUzBHBvcwMxBHNlYwNzcgR2dGlkAw--/SIG=1gqh2vo08/EXP=1238208092/**http%3A//images.search.yahoo.com/images/view%3Fback=http%253A%252F%252Fimages.search.yahoo.com%252Fsearch%252Fimages%253Fei%253DUTF-8%2526p%253Dcaramel%2526fr2%253Dtab-web%2526fr%253Dslv1-twc%2526rand%253D1238121695781%26w=328%26h=500%26imgurl=i44.photobucket.com%252Falbums%252Ff20%252Ftua09032%252Fcaramel.jpg%26rurl=http%253A%252F%252Fwww.myspace.com%252Fyoungcannon262%26size=10kB%26name=caramel.jpg%26p=caramel%26type=JPG%26oid=3fb6972a67374b6e%26no=1%26tt=519,479%26sigr=115ms47fe%26sigi=11jllvpbr%26sigb=13adurdsr" TargetMode="External"/><Relationship Id="rId2" Type="http://schemas.openxmlformats.org/officeDocument/2006/relationships/image" Target="../media/image5.jpeg"/><Relationship Id="rId3" Type="http://schemas.openxmlformats.org/officeDocument/2006/relationships/hyperlink" Target="http://rds.yahoo.com/_ylt=A0WTb_zcPMxJ0gwBu4mJzbkF;_ylu=X3oDMTBqaWRlZWhnBHBvcwMxOQRzZWMDc3IEdnRpZAM-/SIG=1hbkf04gn/EXP=1238208092/**http%3A//images.search.yahoo.com/images/view%3Fback=http%253A%252F%252Fimages.search.yahoo.com%252Fsearch%252Fimages%253Fei%253DUTF-8%2526p%253Dcaramel%2526fr2%253Dtab-web%2526fr%253Dslv1-twc%2526rand%253D1238121695781%26w=612%26h=544%26imgurl=www.jelvehdesigns.com%252Fimages%252FEbay%252F1916Caramel2%252B.jpg%26rurl=http%253A%252F%252Fwww.jelvehdesigns.com%252Fgallery4.htm%26size=85.3kB%26name=1916Caramel2%252B.jpg%26p=caramel%26type=JPG%26oid=fbb0c06831bcada8%26no=19%26tt=519,479%26sigr=119tcesme%26sigi=11jii5cku%26sigb=13adurdsr" TargetMode="External"/><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rds.yahoo.com/_ylt=A0WTb_0pPcxJp1sAjWeJzbkF;_ylu=X3oDMTBqY2pzbGhoBHBvcwMxMQRzZWMDc3IEdnRpZAM-/SIG=1it1tqic4/EXP=1238208169/**http%3A//images.search.yahoo.com/images/view%3Fback=http%253A%252F%252Fimages.search.yahoo.com%252Fsearch%252Fimages%253Fei%253DUTF-8%2526p%253Dchocolate%2526fr2%253Dtab-web%2526fr%253Dslv1-twc%26w=450%26h=336%26imgurl=www.digitalarthawaii.org%252FSaint%252520Gallery%252Fimages%252FGooy%252520Chocolate%252520II.jpg%26rurl=http%253A%252F%252Fforums.vietbao.com%252Ftopic.asp%253FTOPIC_ID%253D31208%2526whichpage%253D8%26size=25.2kB%26name=Gooy%2BChocolate%2BII.jpg%26p=chocolate%26type=JPG%26oid=ab326dedac6754a2%26no=11%26tt=5,999,121%26sigr=11uo9ae1d%26sigi=12955cbmt%26sigb=12p99dsec"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rds.yahoo.com/_ylt=A0WTb_xnPcxJpv0AAyaJzbkF;_ylu=X3oDMTBpZTByOGFiBHBvcwMyBHNlYwNzcgR2dGlkAw--/SIG=1l32n5a38/EXP=1238208231/**http%3A//images.search.yahoo.com/images/view%3Fback=http%253A%252F%252Fimages.search.yahoo.com%252Fsearch%252Fimages%253Fei%253DUTF-8%2526p%253Dcaramel%2526fr2%253Dtab-web%2526fr%253Dslv1-twc%26w=375%26h=500%26imgurl=static.flickr.com%252F105%252F315076721_ef651e78c0.jpg%26rurl=http%253A%252F%252Fwww.flickr.com%252Fphotos%252Fmoonlightbaker%252F315076721%252F%26size=119kB%26name=Finished%2BCaramel%26p=caramel%26type=JPG%26oid=f797970a98a4926c%26fusr=moonlightbaker%26tit=Finished%2BCaramel%26hurl=http%253A%252F%252Fwww.flickr.com%252Fphotos%252Fmoonlightbaker%252F%26no=2%26tt=519,479%26sigr=11mjum1b1%26sigi=11eo99bb9%26sigb=12n9js1p5%26sigh=11cnvmi7k"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rds.yahoo.com/_ylt=A0WTb_yXPcxJWAgBPvuJzbkF;_ylu=X3oDMTBpc2ozM2gzBHBvcwM0BHNlYwNzcgR2dGlkAw--/SIG=1rc8mui3a/EXP=1238208279/**http%3A//images.search.yahoo.com/images/view%3Fback=http%253A%252F%252Fimages.search.yahoo.com%252Fsearch%252Fimages%253Fei%253DUTF-8%2526p%253DHershey%2527s%252520chocolate%252520bar%2526SpellState%253Dn-1364648600_q-U8xMRB4hD96qWt7P2VBbdgAAAA%252540%252540%2526fr2%253Dtab-web%2526fr%253Dslv1-twc%26w=500%26h=375%26imgurl=static.flickr.com%252F3016%252F2626405296_42892de3ff.jpg%26rurl=http%253A%252F%252Fwww.flickr.com%252Fphotos%252F16916080%2540N05%252F2626405296%252F%26size=114.5kB%26name=Hershey%2527s%2Bmilk%2Bchocolate%2Bwith%2Balmonds%26p=Hershey%2527s%2Bchocolate%2Bbar%26type=JPG%26oid=5e3ebd31401640ee%26fusr=mang%2Bmaning2000%26tit=Hershey%2527s%2Bmilk%2Bchocolate%2Bwith%2Balmonds%26hurl=http%253A%252F%252Fwww.flickr.com%252Fphotos%252F16916080%2540N05%252F%26no=4%26tt=859%26sigr=11lraibvs%26sigi=11ggjtpee%26sigb=1566i8it0%26sigh=11alj1srh" TargetMode="External"/><Relationship Id="rId2" Type="http://schemas.openxmlformats.org/officeDocument/2006/relationships/image" Target="../media/image9.jpeg"/><Relationship Id="rId3" Type="http://schemas.openxmlformats.org/officeDocument/2006/relationships/hyperlink" Target="http://rds.yahoo.com/_ylt=A0WTbx6_PcxJK7sAZd6JzbkF;_ylu=X3oDMTBqcGowaXYwBHBvcwMzMwRzZWMDc3IEdnRpZAM-/SIG=1opnpsn8t/EXP=1238208319/**http%3A//images.search.yahoo.com/images/view%3Fback=http%253A%252F%252Fimages.search.yahoo.com%252Fsearch%252Fimages%253Fp%253DHershey%252527s%252Bchocolate%252Bbar%2526ei%253DUTF-8%2526fr%253Dslv1-twc%2526fr2%253Dtab-web%2526xargs%253D0%2526pstart%253D1%2526b%253D21%2526ni%253D20%26w=500%26h=375%26imgurl=static.flickr.com%252F2264%252F1609636124_d8d1e3e649.jpg%26rurl=http%253A%252F%252Fwww.flickr.com%252Fphotos%252Fbranflakez%252F1609636124%252F%26size=123.7kB%26name=Hershey%2527s%2BChocolate%26p=Hershey%2527s%2Bchocolate%2Bbar%26type=JPG%26oid=d875f2de93ddc41c%26fusr=branflakez%26tit=Hershey%2527s%2BChocolate%26hurl=http%253A%252F%252Fwww.flickr.com%252Fphotos%252Fbranflakez%252F%26no=33%26tt=859%26sigr=11jqmbeej%26sigi=11g5ijghb%26sigb=1458efdv4%26sigh=118gr98qv" TargetMode="External"/><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rds.yahoo.com/_ylt=A0WTb_1cPsxJS1UAhdmJzbkF;_ylu=X3oDMTBqNDdwZ3M5BHBvcwMyNQRzZWMDc3IEdnRpZAM-/SIG=1nef9lh1r/EXP=1238208476/**http%3A//images.search.yahoo.com/images/view%3Fback=http%253A%252F%252Fimages.search.yahoo.com%252Fsearch%252Fimages%253Fp%253Dhershey%252Bthe%252Btown%2526ei%253DUTF-8%2526fr%253Dslv1-twc%2526fr2%253Dtab-web%2526xargs%253D0%2526pstart%253D1%2526b%253D19%2526ni%253D18%26w=500%26h=231%26imgurl=static.flickr.com%252F3528%252F3200473530_053ec4d7a9.jpg%26rurl=http%253A%252F%252Fwww.flickr.com%252Fphotos%252Fbub_56%252F3200473530%252F%26size=107.6kB%26name=Welcome%2Bto%2BHershey%26p=hershey%2Bthe%2Btown%26type=JPG%26oid=b0f6a9d4916cd368%26fusr=Bub56%26tit=Welcome%2Bto%2BHershey%26hurl=http%253A%252F%252Fwww.flickr.com%252Fphotos%252Fbub_56%252F%26no=25%26tt=587%26sigr=11fpad4uq%26sigi=11gbh5ku6%26sigb=13sfrossa%26sigh=114isgid8"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rds.yahoo.com/_ylt=A0WTbx8RP8xJlYYBJKWJzbkF;_ylu=X3oDMTBqZm40aHQ5BHBvcwM2NwRzZWMDc3IEdnRpZAM-/SIG=1iu8q4scf/EXP=1238208657/**http%3A//images.search.yahoo.com/images/view%3Fback=http%253A%252F%252Fimages.search.yahoo.com%252Fsearch%252Fimages%253Fp%253Dhershey%252Bthe%252Btown%2526ni%253D18%2526ei%253DUTF-8%2526fr%253Dslv1-twc%2526fr2%253Dtab-web%2526xargs%253D0%2526pstart%253D1%2526b%253D55%26w=135%26h=124%26imgurl=www.campwithrusty.com%252Fart%252Flink_hersheyville.jpg%26rurl=http%253A%252F%252Fwww.campwithrusty.com%252Ff_attractions.html%26size=16kB%26name=link_hersheyville.jpg%26p=hershey%2Bthe%2Btown%26type=JPG%26oid=2f03a4352cff8148%26no=67%26tt=587%26sigr=11ffi7ina%26sigi=11fprpehg%26sigb=13s6a4sum" TargetMode="External"/><Relationship Id="rId2" Type="http://schemas.openxmlformats.org/officeDocument/2006/relationships/image" Target="../media/image13.jpeg"/><Relationship Id="rId3" Type="http://schemas.openxmlformats.org/officeDocument/2006/relationships/hyperlink" Target="http://rds.yahoo.com/_ylt=A0WTb_pBP8xJAC0B8LqJzbkF;_ylu=X3oDMTBqZmNpdnZpBHBvcwM4NwRzZWMDc3IEdnRpZAM-/SIG=1ngasb12h/EXP=1238208705/**http%3A//images.search.yahoo.com/images/view%3Fback=http%253A%252F%252Fimages.search.yahoo.com%252Fsearch%252Fimages%253Fp%253Dhershey%252Bthe%252Btown%2526ni%253D18%2526ei%253DUTF-8%2526fr%253Dslv1-twc%2526fr2%253Dtab-web%2526xargs%253D0%2526pstart%253D1%2526b%253D73%26w=500%26h=375%26imgurl=static.flickr.com%252F41%252F84170777_dcdc498ac0.jpg%26rurl=http%253A%252F%252Fwww.flickr.com%252Fphotos%252Febot%252F84170777%252F%26size=90.6kB%26name=Hershey%2BChocolate%2BFactory%26p=hershey%2Bthe%2Btown%26type=JPG%26oid=12e3dbf5f7a42edc%26fusr=ebot%26tit=Hershey%2BChocolate%2BFactory%26hurl=http%253A%252F%252Fwww.flickr.com%252Fphotos%252Febot%252F%26no=87%26tt=587%26sigr=11bc9se0n%26sigi=11c6j27lr%26sigb=13s4qdo9f%26sigh=112vc1p77" TargetMode="External"/><Relationship Id="rId4" Type="http://schemas.openxmlformats.org/officeDocument/2006/relationships/image" Target="../media/image14.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1142640"/>
            <a:ext cx="6400800" cy="44197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________________’s</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ip Book on</a:t>
            </a:r>
            <a:br>
              <a:rPr sz="3200"/>
            </a:br>
            <a:r>
              <a:rPr b="0" lang="en-US" sz="3200" spc="-1" strike="noStrike">
                <a:solidFill>
                  <a:srgbClr val="000000"/>
                </a:solidFill>
                <a:latin typeface="Arial"/>
              </a:rPr>
              <a:t>Milton S. Hershey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s Chocolate</a:t>
            </a:r>
            <a:endParaRPr b="0" lang="en-US" sz="3200" spc="-1" strike="noStrike">
              <a:solidFill>
                <a:srgbClr val="000000"/>
              </a:solidFill>
              <a:latin typeface="Arial"/>
            </a:endParaRPr>
          </a:p>
        </p:txBody>
      </p:sp>
      <p:pic>
        <p:nvPicPr>
          <p:cNvPr id="42" name="" descr=""/>
          <p:cNvPicPr/>
          <p:nvPr/>
        </p:nvPicPr>
        <p:blipFill>
          <a:blip r:embed="rId1"/>
          <a:stretch/>
        </p:blipFill>
        <p:spPr>
          <a:xfrm>
            <a:off x="63360" y="0"/>
            <a:ext cx="4762800" cy="3571920"/>
          </a:xfrm>
          <a:prstGeom prst="rect">
            <a:avLst/>
          </a:prstGeom>
          <a:ln w="0">
            <a:noFill/>
          </a:ln>
        </p:spPr>
      </p:pic>
      <p:pic>
        <p:nvPicPr>
          <p:cNvPr id="43" name="" descr=""/>
          <p:cNvPicPr/>
          <p:nvPr/>
        </p:nvPicPr>
        <p:blipFill>
          <a:blip r:embed="rId2"/>
          <a:stretch/>
        </p:blipFill>
        <p:spPr>
          <a:xfrm>
            <a:off x="63360" y="0"/>
            <a:ext cx="4762800" cy="3571920"/>
          </a:xfrm>
          <a:prstGeom prst="rect">
            <a:avLst/>
          </a:prstGeom>
          <a:ln w="0">
            <a:noFill/>
          </a:ln>
        </p:spPr>
      </p:pic>
      <p:pic>
        <p:nvPicPr>
          <p:cNvPr id="44" name="" descr="See full size image">
            <a:hlinkClick r:id="rId3"/>
          </p:cNvPr>
          <p:cNvPicPr/>
          <p:nvPr/>
        </p:nvPicPr>
        <p:blipFill>
          <a:blip r:embed="rId4"/>
          <a:stretch/>
        </p:blipFill>
        <p:spPr>
          <a:xfrm>
            <a:off x="2057400" y="4191120"/>
            <a:ext cx="518148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Go to fullsize image">
            <a:hlinkClick r:id="rId1"/>
          </p:cNvPr>
          <p:cNvPicPr/>
          <p:nvPr/>
        </p:nvPicPr>
        <p:blipFill>
          <a:blip r:embed="rId2"/>
          <a:stretch/>
        </p:blipFill>
        <p:spPr>
          <a:xfrm>
            <a:off x="0" y="0"/>
            <a:ext cx="9144000" cy="16002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Great Depression</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d Milton Hershey do in order to provide jobs during the harsh economic times of the Great Depr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lton Hershey School</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ton Hershey was unable to have kids. So, he built what schoo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as the school founded fo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does the benefit tod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Go to fullsize image">
            <a:hlinkClick r:id="rId1"/>
          </p:cNvPr>
          <p:cNvPicPr/>
          <p:nvPr/>
        </p:nvPicPr>
        <p:blipFill>
          <a:blip r:embed="rId2"/>
          <a:stretch/>
        </p:blipFill>
        <p:spPr>
          <a:xfrm>
            <a:off x="0" y="0"/>
            <a:ext cx="2666880" cy="152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lton’s Death</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ton Hershey died in what ye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id he di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old was he when he d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Hershey’s Kis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as the Hershey Kiss inven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can you purchase Hershey’s Kisses tod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 descr="Image Preview"/>
          <p:cNvPicPr/>
          <p:nvPr/>
        </p:nvPicPr>
        <p:blipFill>
          <a:blip r:embed="rId1"/>
          <a:stretch/>
        </p:blipFill>
        <p:spPr>
          <a:xfrm>
            <a:off x="0" y="0"/>
            <a:ext cx="3276720" cy="167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cribe the Process of Making Chocolate…</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s </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_______ gallons of milk a d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_______ user of almonds in the United States.</a:t>
            </a:r>
            <a:endParaRPr b="0" lang="en-US" sz="3200" spc="-1" strike="noStrike">
              <a:solidFill>
                <a:srgbClr val="000000"/>
              </a:solidFill>
              <a:latin typeface="Arial"/>
            </a:endParaRPr>
          </a:p>
        </p:txBody>
      </p:sp>
      <p:pic>
        <p:nvPicPr>
          <p:cNvPr id="87" name="" descr="Go to fullsize image"/>
          <p:cNvPicPr/>
          <p:nvPr/>
        </p:nvPicPr>
        <p:blipFill>
          <a:blip r:embed="rId1"/>
          <a:stretch/>
        </p:blipFill>
        <p:spPr>
          <a:xfrm>
            <a:off x="0" y="4876920"/>
            <a:ext cx="9144000" cy="198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 Legacy</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key words in Milton S. Hershey’s legacy?</a:t>
            </a:r>
            <a:endParaRPr b="0" lang="en-US" sz="3200" spc="-1" strike="noStrike">
              <a:solidFill>
                <a:srgbClr val="000000"/>
              </a:solidFill>
              <a:latin typeface="Arial"/>
            </a:endParaRPr>
          </a:p>
        </p:txBody>
      </p:sp>
      <p:pic>
        <p:nvPicPr>
          <p:cNvPr id="90" name="" descr="Go to fullsize image">
            <a:hlinkClick r:id="rId1"/>
          </p:cNvPr>
          <p:cNvPicPr/>
          <p:nvPr/>
        </p:nvPicPr>
        <p:blipFill>
          <a:blip r:embed="rId2"/>
          <a:stretch/>
        </p:blipFill>
        <p:spPr>
          <a:xfrm>
            <a:off x="2895480" y="5715000"/>
            <a:ext cx="3505320" cy="685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e Three Interesting Facts About A Hershey’s Candy…</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 </a:t>
            </a:r>
            <a:r>
              <a:rPr b="0" lang="en-US" sz="4400" spc="-1" strike="noStrike">
                <a:solidFill>
                  <a:srgbClr val="000000"/>
                </a:solidFill>
                <a:latin typeface="Wingdings"/>
                <a:ea typeface="Wingdings"/>
              </a:rPr>
              <a:t></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Image Preview"/>
          <p:cNvPicPr/>
          <p:nvPr/>
        </p:nvPicPr>
        <p:blipFill>
          <a:blip r:embed="rId1"/>
          <a:stretch/>
        </p:blipFill>
        <p:spPr>
          <a:xfrm>
            <a:off x="457200" y="1523880"/>
            <a:ext cx="8229600" cy="46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lton S. Hershey</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rth d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rth tow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of parents:</a:t>
            </a:r>
            <a:endParaRPr b="0" lang="en-US" sz="3200" spc="-1" strike="noStrike">
              <a:solidFill>
                <a:srgbClr val="000000"/>
              </a:solidFill>
              <a:latin typeface="Arial"/>
            </a:endParaRPr>
          </a:p>
        </p:txBody>
      </p:sp>
      <p:pic>
        <p:nvPicPr>
          <p:cNvPr id="47" name="" descr=""/>
          <p:cNvPicPr/>
          <p:nvPr/>
        </p:nvPicPr>
        <p:blipFill>
          <a:blip r:embed="rId1"/>
          <a:stretch/>
        </p:blipFill>
        <p:spPr>
          <a:xfrm>
            <a:off x="5105520" y="1523880"/>
            <a:ext cx="3124080" cy="3962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Milton’s Education</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til what grade was Milton educa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id he start his internship at the caramel factory?</a:t>
            </a:r>
            <a:endParaRPr b="0" lang="en-US" sz="3200" spc="-1" strike="noStrike">
              <a:solidFill>
                <a:srgbClr val="000000"/>
              </a:solidFill>
              <a:latin typeface="Arial"/>
            </a:endParaRPr>
          </a:p>
        </p:txBody>
      </p:sp>
      <p:pic>
        <p:nvPicPr>
          <p:cNvPr id="50" name="" descr="See full size image">
            <a:hlinkClick r:id="rId1"/>
          </p:cNvPr>
          <p:cNvPicPr/>
          <p:nvPr/>
        </p:nvPicPr>
        <p:blipFill>
          <a:blip r:embed="rId2"/>
          <a:stretch/>
        </p:blipFill>
        <p:spPr>
          <a:xfrm>
            <a:off x="0" y="0"/>
            <a:ext cx="2362320" cy="236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amel Business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ton Hershey’s first three caramel businesses failed, do to his recipe and location. However, he kept revamping his recipes and locations until he landed back in PA. Where were the first three locations that Milton opened his caramel candy business?</a:t>
            </a:r>
            <a:endParaRPr b="0" lang="en-US" sz="3200" spc="-1" strike="noStrike">
              <a:solidFill>
                <a:srgbClr val="000000"/>
              </a:solidFill>
              <a:latin typeface="Arial"/>
            </a:endParaRPr>
          </a:p>
        </p:txBody>
      </p:sp>
      <p:pic>
        <p:nvPicPr>
          <p:cNvPr id="53" name="" descr="Go to fullsize image">
            <a:hlinkClick r:id="rId1"/>
          </p:cNvPr>
          <p:cNvPicPr/>
          <p:nvPr/>
        </p:nvPicPr>
        <p:blipFill>
          <a:blip r:embed="rId2"/>
          <a:stretch/>
        </p:blipFill>
        <p:spPr>
          <a:xfrm>
            <a:off x="7596360" y="0"/>
            <a:ext cx="1547640" cy="1752480"/>
          </a:xfrm>
          <a:prstGeom prst="rect">
            <a:avLst/>
          </a:prstGeom>
          <a:ln w="0">
            <a:noFill/>
          </a:ln>
        </p:spPr>
      </p:pic>
      <p:pic>
        <p:nvPicPr>
          <p:cNvPr id="54" name="" descr="Go to fullsize image">
            <a:hlinkClick r:id="rId3"/>
          </p:cNvPr>
          <p:cNvPicPr/>
          <p:nvPr/>
        </p:nvPicPr>
        <p:blipFill>
          <a:blip r:embed="rId4"/>
          <a:stretch/>
        </p:blipFill>
        <p:spPr>
          <a:xfrm>
            <a:off x="0" y="0"/>
            <a:ext cx="1981080" cy="16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Go to fullsize image">
            <a:hlinkClick r:id="rId1"/>
          </p:cNvPr>
          <p:cNvPicPr/>
          <p:nvPr/>
        </p:nvPicPr>
        <p:blipFill>
          <a:blip r:embed="rId2"/>
          <a:stretch/>
        </p:blipFill>
        <p:spPr>
          <a:xfrm>
            <a:off x="0" y="0"/>
            <a:ext cx="9144000" cy="152388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ilton Creating Chocolat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Milton Hershey became fascinated with inventing chocola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name of Milton’s successful caramel candy making business and how old was h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d why did he sell his successful caramel candy making busin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did he sell this company f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Go to fullsize image">
            <a:hlinkClick r:id="rId1"/>
          </p:cNvPr>
          <p:cNvPicPr/>
          <p:nvPr/>
        </p:nvPicPr>
        <p:blipFill>
          <a:blip r:embed="rId2"/>
          <a:stretch/>
        </p:blipFill>
        <p:spPr>
          <a:xfrm>
            <a:off x="3733920" y="5638680"/>
            <a:ext cx="1904760" cy="84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hocolate Bar</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year did Milton create the chocolate b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roducts did he use to create the chocolate b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what war, did he send chocolate bars to the soldiers?</a:t>
            </a:r>
            <a:endParaRPr b="0" lang="en-US" sz="3200" spc="-1" strike="noStrike">
              <a:solidFill>
                <a:srgbClr val="000000"/>
              </a:solidFill>
              <a:latin typeface="Arial"/>
            </a:endParaRPr>
          </a:p>
        </p:txBody>
      </p:sp>
      <p:pic>
        <p:nvPicPr>
          <p:cNvPr id="62" name="" descr="Go to fullsize image">
            <a:hlinkClick r:id="rId1"/>
          </p:cNvPr>
          <p:cNvPicPr/>
          <p:nvPr/>
        </p:nvPicPr>
        <p:blipFill>
          <a:blip r:embed="rId2"/>
          <a:stretch/>
        </p:blipFill>
        <p:spPr>
          <a:xfrm>
            <a:off x="0" y="0"/>
            <a:ext cx="2057400" cy="1600200"/>
          </a:xfrm>
          <a:prstGeom prst="rect">
            <a:avLst/>
          </a:prstGeom>
          <a:ln w="0">
            <a:noFill/>
          </a:ln>
        </p:spPr>
      </p:pic>
      <p:pic>
        <p:nvPicPr>
          <p:cNvPr id="63" name="" descr="Go to fullsize image">
            <a:hlinkClick r:id="rId3"/>
          </p:cNvPr>
          <p:cNvPicPr/>
          <p:nvPr/>
        </p:nvPicPr>
        <p:blipFill>
          <a:blip r:embed="rId4"/>
          <a:stretch/>
        </p:blipFill>
        <p:spPr>
          <a:xfrm>
            <a:off x="7010280" y="0"/>
            <a:ext cx="2133720" cy="152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s Model Tow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built a model town for who?</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d his model town consist of?</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name of his model town today?</a:t>
            </a:r>
            <a:endParaRPr b="0" lang="en-US" sz="3200" spc="-1" strike="noStrike">
              <a:solidFill>
                <a:srgbClr val="000000"/>
              </a:solidFill>
              <a:latin typeface="Arial"/>
            </a:endParaRPr>
          </a:p>
        </p:txBody>
      </p:sp>
      <p:pic>
        <p:nvPicPr>
          <p:cNvPr id="66" name="" descr="Image Preview"/>
          <p:cNvPicPr/>
          <p:nvPr/>
        </p:nvPicPr>
        <p:blipFill>
          <a:blip r:embed="rId1"/>
          <a:stretch/>
        </p:blipFill>
        <p:spPr>
          <a:xfrm>
            <a:off x="0" y="0"/>
            <a:ext cx="1600200" cy="1371600"/>
          </a:xfrm>
          <a:prstGeom prst="rect">
            <a:avLst/>
          </a:prstGeom>
          <a:ln w="0">
            <a:noFill/>
          </a:ln>
        </p:spPr>
      </p:pic>
      <p:pic>
        <p:nvPicPr>
          <p:cNvPr id="67" name="" descr="Go to fullsize image">
            <a:hlinkClick r:id="rId2"/>
          </p:cNvPr>
          <p:cNvPicPr/>
          <p:nvPr/>
        </p:nvPicPr>
        <p:blipFill>
          <a:blip r:embed="rId3"/>
          <a:stretch/>
        </p:blipFill>
        <p:spPr>
          <a:xfrm>
            <a:off x="7543800" y="0"/>
            <a:ext cx="1600200" cy="137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shey Today</a:t>
            </a:r>
            <a:br>
              <a:rPr sz="4000"/>
            </a:b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Milton Hershey’s house used for tod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building in Hershey, is dedicated to the Hershey’s?</a:t>
            </a:r>
            <a:endParaRPr b="0" lang="en-US" sz="3200" spc="-1" strike="noStrike">
              <a:solidFill>
                <a:srgbClr val="000000"/>
              </a:solidFill>
              <a:latin typeface="Arial"/>
            </a:endParaRPr>
          </a:p>
        </p:txBody>
      </p:sp>
      <p:pic>
        <p:nvPicPr>
          <p:cNvPr id="70" name="" descr="Go to fullsize image">
            <a:hlinkClick r:id="rId1"/>
          </p:cNvPr>
          <p:cNvPicPr/>
          <p:nvPr/>
        </p:nvPicPr>
        <p:blipFill>
          <a:blip r:embed="rId2"/>
          <a:stretch/>
        </p:blipFill>
        <p:spPr>
          <a:xfrm>
            <a:off x="380880" y="152280"/>
            <a:ext cx="1981440" cy="1371600"/>
          </a:xfrm>
          <a:prstGeom prst="rect">
            <a:avLst/>
          </a:prstGeom>
          <a:ln w="0">
            <a:noFill/>
          </a:ln>
        </p:spPr>
      </p:pic>
      <p:pic>
        <p:nvPicPr>
          <p:cNvPr id="71" name="" descr="Go to fullsize image">
            <a:hlinkClick r:id="rId3"/>
          </p:cNvPr>
          <p:cNvPicPr/>
          <p:nvPr/>
        </p:nvPicPr>
        <p:blipFill>
          <a:blip r:embed="rId4"/>
          <a:stretch/>
        </p:blipFill>
        <p:spPr>
          <a:xfrm>
            <a:off x="6629400" y="0"/>
            <a:ext cx="2514600" cy="152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7T00:53:45Z</dcterms:created>
  <dc:creator>Nick Macrina</dc:creator>
  <dc:description/>
  <dc:language>en-US</dc:language>
  <cp:lastModifiedBy>Nick Macrina</cp:lastModifiedBy>
  <dcterms:modified xsi:type="dcterms:W3CDTF">2009-03-27T03:29:58Z</dcterms:modified>
  <cp:revision>4</cp:revision>
  <dc:subject/>
  <dc:title>Slide 1</dc:title>
</cp:coreProperties>
</file>